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5845-11BA-4D50-9E0B-1082069F3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E2DB-25F8-4F58-97B2-07388ED7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E717-BD07-42BE-9A51-4EFAC5A56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92B2-59AB-4231-9F81-1BF8EE57F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0F70-CC3D-498B-A234-92E9C87B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4ECF-4B3A-4E1C-A618-124200B4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A4E7-513A-463F-AE55-536EAEAF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1231-EE44-4C73-86C8-8D9A1459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C383-19A1-4036-B8D1-102D3805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2B09-E563-41DC-B326-2CBAC528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54F7-CEB8-4236-83DE-426DAC5F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DD5F-B961-4FDF-B101-BFC1381C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CA78-98D6-41AC-88C5-821A9EDF3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6400" y="2417400"/>
            <a:ext cx="8547120" cy="15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333399"/>
                </a:solidFill>
                <a:latin typeface="Arial"/>
              </a:rPr>
              <a:t>Katelin Brito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68520" y="4368960"/>
            <a:ext cx="702288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6699"/>
                </a:solidFill>
                <a:uFillTx/>
                <a:latin typeface="Arial"/>
              </a:rPr>
              <a:t>Arc de Triomp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6880" y="117360"/>
            <a:ext cx="3409920" cy="2102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620040" y="304920"/>
            <a:ext cx="2774880" cy="204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46160" y="5032440"/>
            <a:ext cx="2552760" cy="2100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454880" y="4930920"/>
            <a:ext cx="222084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a64d79"/>
                </a:solidFill>
                <a:latin typeface="Arial"/>
              </a:rPr>
              <a:t>Direction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Arc de Triomphe is located in the 16th arrondissement on Paris's Right Bank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16th is located in the northwest sector of the cit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R: line A, station Charles-de-Gaulle-Eto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etro: lines 1,2, and 6, stations Charles-de-Gaulle-Eto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rom Outside Paris: exit Porte Maillot and avenue de la Grande Armee or exit Porte Dauphine and avenue Foch From the centre of Paris: drive up the Champs Elyse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48120" y="5384880"/>
            <a:ext cx="328932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280" y="406080"/>
            <a:ext cx="965232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4cccc"/>
                </a:solidFill>
                <a:latin typeface="Arial"/>
              </a:rPr>
              <a:t>    </a:t>
            </a:r>
            <a:r>
              <a:rPr b="0" lang="en-US" sz="4300" spc="-1" strike="noStrike" u="sng">
                <a:solidFill>
                  <a:srgbClr val="000000"/>
                </a:solidFill>
                <a:uFillTx/>
                <a:latin typeface="Arial"/>
              </a:rPr>
              <a:t>Bibliography</a:t>
            </a:r>
            <a:r>
              <a:rPr b="0" lang="en-US" sz="4300" spc="-1" strike="noStrike">
                <a:solidFill>
                  <a:srgbClr val="f4cccc"/>
                </a:solidFill>
                <a:latin typeface="Arial"/>
              </a:rPr>
              <a:t>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Napoleon's Triumphe Arc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Loc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ff"/>
                </a:solidFill>
                <a:latin typeface="Arial"/>
              </a:rPr>
              <a:t>Observator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ffff"/>
                </a:solidFill>
                <a:latin typeface="Arial"/>
              </a:rPr>
              <a:t>Mone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ff00"/>
                </a:solidFill>
                <a:latin typeface="Arial"/>
              </a:rPr>
              <a:t>Dimen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99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00ff"/>
                </a:solidFill>
                <a:latin typeface="Arial"/>
              </a:rPr>
              <a:t>Sculptures on Monum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9900"/>
                </a:solidFill>
                <a:latin typeface="Arial"/>
              </a:rPr>
              <a:t>Hours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Directions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2240" y="355320"/>
            <a:ext cx="9055080" cy="11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00"/>
                </a:solidFill>
                <a:latin typeface="Arial"/>
              </a:rPr>
              <a:t>Napoleon’s Triumphe Arch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52240" y="1828800"/>
            <a:ext cx="90550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arch was commissioned by Napoleon in 1806 to commemorate his victories, but he was ousted before the arch was completed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fact it wasn’t completed until 1836 during the reign of Louis-Philipp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556080" y="3132000"/>
            <a:ext cx="279396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0000"/>
                </a:solidFill>
                <a:latin typeface="Arial"/>
              </a:rPr>
              <a:t>                      </a:t>
            </a:r>
            <a:r>
              <a:rPr b="0" lang="en-US" sz="4300" spc="-1" strike="noStrike">
                <a:solidFill>
                  <a:srgbClr val="ff0000"/>
                </a:solidFill>
                <a:latin typeface="Arial"/>
              </a:rPr>
              <a:t>Loca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arch is located at the end of the Champs-Elysees, in the middle of the Place Charles de Gaulle, a large circular square that is no less than 12 streets emanate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            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streets are named after French military leader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828800" y="3352680"/>
            <a:ext cx="2413080" cy="22734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587920" y="4064040"/>
            <a:ext cx="243864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                  </a:t>
            </a:r>
            <a:r>
              <a:rPr b="0" lang="en-US" sz="4300" spc="-1" strike="noStrike">
                <a:solidFill>
                  <a:srgbClr val="00ff00"/>
                </a:solidFill>
                <a:latin typeface="Arial"/>
              </a:rPr>
              <a:t> </a:t>
            </a:r>
            <a:r>
              <a:rPr b="0" lang="en-US" sz="4300" spc="-1" strike="noStrike">
                <a:solidFill>
                  <a:srgbClr val="00ff00"/>
                </a:solidFill>
                <a:latin typeface="Arial"/>
              </a:rPr>
              <a:t>Observator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rom the platform you can see La Defense, Champs-Elysees and the Sacre-Coeu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o not try and cross the street it is too dangerous, take one of the underpass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You need to take forty steps to get to the to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454560" y="4470480"/>
            <a:ext cx="21463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ff"/>
                </a:solidFill>
                <a:latin typeface="Arial"/>
              </a:rPr>
              <a:t>Mone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dults 9 eur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udents 18-25 5 euro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ildren under 18 are FRE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765520" y="3336840"/>
            <a:ext cx="340524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00ff"/>
                </a:solidFill>
                <a:latin typeface="Arial"/>
              </a:rPr>
              <a:t>Dimension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eight is 164 ft. (50m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dth is 148 ft. (45m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pth is 72ft. (22m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51160" y="3149640"/>
            <a:ext cx="3613320" cy="3267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14400" y="6299280"/>
            <a:ext cx="855504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9900"/>
                </a:solidFill>
                <a:latin typeface="Arial"/>
              </a:rPr>
              <a:t>Sculptures on Monumen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e Depart de 179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e Triomphe de 181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a Resistance de 1814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a Paix de 1815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12880" y="4064040"/>
            <a:ext cx="1612800" cy="2158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844720" y="4064040"/>
            <a:ext cx="2071800" cy="2198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283360" y="3962520"/>
            <a:ext cx="1736640" cy="2535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7416720" y="4165560"/>
            <a:ext cx="199548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                          </a:t>
            </a:r>
            <a:r>
              <a:rPr b="0" lang="en-US" sz="4300" spc="-1" strike="noStrike">
                <a:solidFill>
                  <a:srgbClr val="38761d"/>
                </a:solidFill>
                <a:latin typeface="Arial"/>
              </a:rPr>
              <a:t>Hours 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                             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rom April 1 to September 30: 10:00 am. to 11:00 p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rom October 1 to March 31: 10:00 am- 10:30 p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cash desk close 1/2 hour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osed on January 1, May 1, May 8 (morning) July 14 (morning) November 11 (morning) and December 25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251160" y="4165560"/>
            <a:ext cx="283212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